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24CA-3C2D-4CD8-9BB0-A944E4F2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AD25-688A-47E9-B673-FDD94B55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E56C-39B6-40AE-92C8-09EF488E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7C8-17B9-485E-8440-FE6D4169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F6AF-F70D-4A4F-A0E1-BD14912F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1BB0-0337-434D-8218-472757FE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03C2-0A05-448F-9192-82D86A20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5DDA-89CB-43C5-A76D-E3ED13CF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97F5-F806-4221-B3DE-034983FE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3511-60A4-463D-8D04-0F0DBB5B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ADDE-2BF9-489E-83B9-C57E310F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218A-4365-4836-AE40-30F298F4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912C-461B-4AB9-B194-899A7FC4F16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4-10-08T18:05:42Z</dcterms:modified>
  <cp:revision>26</cp:revision>
  <dc:subject/>
  <dc:title>Diapositiva 1</dc:title>
</cp:coreProperties>
</file>