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963-2D6D-4391-AEE5-B263B0AB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3988-278A-47B8-9BDD-1F7E3553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2549-1AE9-402F-9FF3-A87DDE6F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B95-00F8-43D4-93D4-B585DE02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9F90-5939-4354-B052-A556889C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C2F-2A9E-4D92-883D-62E14412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C654-A6E9-4C18-9ED0-A703D786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765B-7393-4301-A30A-11501CDF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ED6-6CEE-481D-9702-3DE2B2BB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004-A8AA-40BB-BCD4-DEB1D280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5573-AC8D-477F-B8ED-353771D6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BD3-C00F-45A0-B6D2-1472FA8B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A13F-91C5-4C23-85E7-6D73115830F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lide unife1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981080" y="1295280"/>
            <a:ext cx="533412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Università degli Studi di Ferr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Facoltà di Scienze MM.FF.N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CdL in Tecnologie Fisich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3520" y="2514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666"/>
                </a:solidFill>
                <a:latin typeface="Arial"/>
              </a:rPr>
              <a:t>Titolo del C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90720" y="3276720"/>
            <a:ext cx="3809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Studente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Tutor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095880" y="32767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28600" y="4343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AZ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28600" y="5181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TITOLO PROG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lide unife2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752480" y="838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666"/>
                </a:solidFill>
                <a:latin typeface="Arial"/>
              </a:rPr>
              <a:t>Tit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90720" y="6553080"/>
            <a:ext cx="716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c0c0c0"/>
                </a:solidFill>
                <a:latin typeface="Tahoma"/>
              </a:rPr>
              <a:t>Corso …………………………………………… – Tecnologie Fisiche Innovative - UN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2:17:26Z</dcterms:created>
  <dc:creator>Daniela</dc:creator>
  <dc:description/>
  <dc:language>en-US</dc:language>
  <cp:lastModifiedBy>nicola</cp:lastModifiedBy>
  <dcterms:modified xsi:type="dcterms:W3CDTF">2012-01-28T16:25:00Z</dcterms:modified>
  <cp:revision>4</cp:revision>
  <dc:subject/>
  <dc:title>Presentazione di PowerPoint</dc:title>
</cp:coreProperties>
</file>