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A7A-1DA8-4B56-950D-910C8B5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2A2-83E9-4B71-BC7C-108F9E9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220-A7F0-4AA7-8DA8-9E54B1EF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01D-EF93-48F8-A53E-A4DE2A4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711-ADB4-4DF8-8862-C852B0CF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9C3-B813-4B5E-B38A-AC582DD5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F11-BD16-418D-9DDE-B1D7CAC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37C-0B53-4FCA-B7BF-C932C670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462-4C25-4120-BD2E-6E4105D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774-1332-4D28-A501-C1F309DB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634-4AD4-4044-8A0B-86DFA8D0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A24-A6DE-4E60-8B01-BA4A03A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9EAB-4AC9-44C3-A646-7851C03023F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lide unife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81080" y="1295280"/>
            <a:ext cx="53341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Università degli Studi di Ferr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Facoltà di Scienze MM.FF.N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CdL in Tecnologie Fisiche Inno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3520" y="2514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666"/>
                </a:solidFill>
                <a:latin typeface="Arial"/>
              </a:rPr>
              <a:t>Titolo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0720" y="3276720"/>
            <a:ext cx="3809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Studente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666"/>
                </a:solidFill>
                <a:latin typeface="Verdana"/>
              </a:rPr>
              <a:t>Tutor:</a:t>
            </a: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095880" y="32767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666"/>
                </a:solidFill>
                <a:latin typeface="Verdana"/>
              </a:rPr>
              <a:t>Prof. Nome Cog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28600" y="4343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5181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666"/>
                </a:solidFill>
                <a:latin typeface="Arial"/>
              </a:rPr>
              <a:t>TITOLO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lide unife2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5248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666"/>
                </a:solidFill>
                <a:latin typeface="Arial"/>
              </a:rPr>
              <a:t>Tit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90720" y="6553080"/>
            <a:ext cx="716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c0c0c0"/>
                </a:solidFill>
                <a:latin typeface="Tahoma"/>
              </a:rPr>
              <a:t>Corso …………………………………………… – Tecnologie Fisiche Innovative - UNIF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2:17:26Z</dcterms:created>
  <dc:creator>Daniela</dc:creator>
  <dc:description/>
  <dc:language>en-US</dc:language>
  <cp:lastModifiedBy>nicola</cp:lastModifiedBy>
  <dcterms:modified xsi:type="dcterms:W3CDTF">2012-01-28T16:25:00Z</dcterms:modified>
  <cp:revision>4</cp:revision>
  <dc:subject/>
  <dc:title>Presentazione di PowerPoint</dc:title>
</cp:coreProperties>
</file>